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2652990"/>
        <c:axId val="33460800"/>
      </c:barChart>
      <c:catAx>
        <c:axId val="2652990"/>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33460800"/>
        <c:crosses val="autoZero"/>
        <c:auto val="1"/>
        <c:lblAlgn val="ctr"/>
        <c:lblOffset val="100"/>
        <c:noMultiLvlLbl val="0"/>
      </c:catAx>
      <c:valAx>
        <c:axId val="33460800"/>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2652990"/>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4A0A0-52A7-4332-8E1F-48EC5876C9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72724-FD12-46C5-A036-ED141543F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1250E9-9352-4E9E-836C-022ED3719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1F3BA-2A7F-413A-AC1E-796805E99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F84CF8-9CEA-4098-8E9C-32F4A9468A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7FA73-2727-4437-A7EB-A784FBFAC5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8B1E23-44CC-426B-A18F-391508A0FD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B42BC-142F-4AFF-9DE7-11F68B33C9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4737F7-E6BF-49BD-9A1E-5BA2A4FB9F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42BE14-D3C7-4D35-981A-AB01FA6925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3AD2B-C7E8-40E4-B4D0-B2DA27859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87D84-87A6-4AB1-99B4-D11F6BF3A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5B4F2-1ED8-46CE-B766-7B53246F3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81730-00B4-444F-8548-AE8B344D3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FD628D-5E61-4587-9B32-AC8D19ACE4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7E3F91-C256-4B8A-98CC-BFACC8B66F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7BE4AC-D257-4913-A26A-2E59815E8F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90C16-425F-4A4C-8489-5F961EC5D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70FA8-AF63-4FCE-96D8-971FCC03D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D6371-AAA6-40CC-A3CE-3EC7548F5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19890-BC73-4DDE-89F9-357AD16C8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5C432-CECF-4071-A122-ABF328D27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E3C31-CC06-4A00-9E6F-EF244C055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AA4FC-FB84-41DA-9C1D-6C098A1B7B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BB9AA1-5F33-45DD-A736-279DC5524264}"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F3CB65-9CC0-400B-9B7E-CC821230B53C}"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