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77693194"/>
        <c:axId val="20732889"/>
      </c:barChart>
      <c:catAx>
        <c:axId val="77693194"/>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20732889"/>
        <c:crosses val="autoZero"/>
        <c:auto val="1"/>
        <c:lblAlgn val="ctr"/>
        <c:lblOffset val="100"/>
        <c:noMultiLvlLbl val="0"/>
      </c:catAx>
      <c:valAx>
        <c:axId val="20732889"/>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77693194"/>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19FFE-AA8E-4FA8-8BC3-4BC6DA804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255FC-A894-4582-B839-16E555DEF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0D077-3D9B-4C9C-B7BF-EE2AE3ECF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66205-CA67-4A6E-AF61-C98319C1EC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6302D1-5DDF-4F4C-B45E-BC26F83698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1183D-50A9-4081-8885-BD9CCB3F9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FA08FA-9800-482F-9975-E0ED7A4736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FD7771-F3EB-4D72-AAAE-1A392BB90C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9E7B0B-04DC-4EFF-A046-A641520587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A72D6-1CE4-4705-A79F-0E79BCBC97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17D50-C61E-4E06-B5F5-7E1991D80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94C36-987A-44FA-8B5E-462A425CD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D9B8E-D693-4929-839B-4AAF63F56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550B5-ED4E-4EF0-BFF4-B22FB7F59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0C82AD-0781-4C8A-A3AD-69BDD6551F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080BAF-3B9C-4B0B-A863-ED806DB80B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047ED8-31FE-4EBE-8AF5-686440A8F7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488BE-40DA-4CBA-860E-E3801FC24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2C1C3-DF0A-4D96-BC8D-1E2295835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E2619-91C8-44AD-99F1-C754AF688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A8149-452A-408F-AA45-6879C41ED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8993E-3DAD-41F4-8A8D-ABB8FD408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2DD1F-DC75-41F8-AC43-EE57D092B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CDFFF-9185-412B-B438-E3DC2536AE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E89EB8-5FDC-4E50-A199-FB65E5B72EDB}"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F5AA23-4F58-4F61-887B-13C78CA3F826}"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